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7EAA-DAE0-4F09-B128-33C1F0482EE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03FD-D27B-44B7-A3E2-97AA305E9BD9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E4A-D83B-4F55-9074-4055C18D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819-D9DD-462B-913D-84539DD5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8AD-BD2A-4C11-BFA2-5499C34F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5C2-0131-43B9-8919-A58F5A9F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C1C-5F1B-4185-B1FA-D6C7F832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53F-BC0D-4E82-837D-CA8E48E7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FA2-4FAE-427F-8818-C85D29CE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D21-B65A-439D-A612-73B7622D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9E1-F722-428F-B1AE-5CB2FE14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674-25DA-420D-BC43-68F7C1F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996-2216-43BB-BDC1-334866A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5B6-2CF1-4D1D-8FF8-9CB4FDE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EC20-9C34-4D76-A9C2-D5E8643AE71C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VCPASS: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Rivoluzione Informatica, gestione dei documenti e controllo dei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requisiti nelle gare di appal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lberto Barbie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Ripresa degli appalti pubbli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Milano – 25 ottobre 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l’AVCPAss fornisce alla S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Mediante l’AVCPass la SA ottiene i documenti comprovant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la maggior parte dei requisiti di ordine generale (visura Camera Commercio, casellario completo, ecc.)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i requisiti di capacità economica (bilanci, fatturati) e la maggior parte dei requisiti di capacità tecnica (numero dipendenti, ecc.)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73FE-C689-4BC0-925F-5BD2ED1C2510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Criticità su alcuni document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Relativamente alle attestazioni bancarie (se richieste come requisito di capacità economica) la deliberazione AVCP n. 111/2012 non fornisce alcuna indicazione in ordine alle modalità di inserimento nell’AVCPass e risulta prevalente la previsione dell’art. 41 del Codice che ne richiede la presentazione in origin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6613-1A35-4805-B4D0-2943B2589F2F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Come l’OE accede all’AVCPass/ 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registrarsi nel sistema AVCPass (profilazion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accesso al sistema è quindi consentito mediante l’indicazione del CIG relativo alla gara/lotto alla quale l’OE intende partecip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sistema guida l’OE nell’introduzione dei documenti (mediante semplice allegazion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8B5C-51E0-418A-978F-BD946AD26DE4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Come l’OE accede all’AVCPass/ 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Una volta completate le operazioni di inserimento dei documenti comprovanti i requisiti richiesti, l’OE ottiene dal sistema AVCPass un documento di sintesi, il PASSO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PASSOE deve essere allegato alla documentazione amministrativa connessa all’istanza di partecipazione alla ga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93B0-82A7-41BE-AFEF-1C8EE266AFDB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Criticità particolar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inserimento dei documenti da parte dell’OE può avvenire solo sino al termine di scadenza delle offer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a mancata allegazione del PASSOE non è individuata come causa di esclusione nella deliberazione AVCP 111/2012 e nei bandi-tipo dell’AVCP, quindi un’eventuale esclusione può essere oggetto di ricors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D1F-3726-4225-B6F7-763D2694544F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ndo la SA utilizza l’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a stazione appaltante è tenuta ad utilizzare l’AVCPass per la verifica dei requisit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n corso di gara, per i controlli ex art. 48 e per i controlli (a campione) delle dichiarazioni ex art. 38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ost aggiudicazione, in relazione all’efficacia della stessa e per la stipulazione del contrat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514-8FE3-4FE8-95C4-9A3E868424A1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ossibili problematiche transitori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e la SA necessita di elementi integrativi (ex art. 46, comma 1 Codice) rispetto ai  documenti presentati da OE, deve operare una richiesta che non può essere gestita mediante il sistema AVCPass, ma che sarà gestita mediante comunicazioni via PE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 caso di esclusioni in gara, è probabile che le comunicazioni di esclusione siano inoltrate via PEC (attenzione ad attestazione di ricevuta !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DA3-4E12-4A97-A03F-C4FFBFF83182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roblematiche relative all’accesso ai document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Qualora un OE concorrente alla gara intenda acquisire  mediante diritto di accesso “breve” (art. 79) documenti inerenti i requisiti, deve rivolgere l’istanza alla 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 documenti saranno forniti come documenti informatici (copia) o come copie analogiche di documenti informati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18C5-4A2A-4056-AD22-3B9DF265074C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Problematiche AVCPAss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l sistema AVCPass non è attualmente utilizzabile per verificare i requisit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delle procedure di affidamento diretto entro i 40.000 euro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delle procedure gestite mediante il MEP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SA devono essere molto precise nella descrizione dei documenti da presenta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0F9-841B-41BF-9CB3-933DDBC55F55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I riferimenti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Codice di contratti pubblici (art. 6-bis e art. 48) prevede ch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l controllo dei requisiti di ordine generale (riscontro dichiarazioni)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l controllo dei requisiti di capacità (economica e tecnica) degli operatori concorrenti alle gare sia effettuato mediante la Banca Dati Nazionale dei Contratti Pubblici (BDNCP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7772-5C47-48D1-AD9C-1076D3BB145E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A cosa serve l’AVCP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AVCPass è il sistema (informatico) che consen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alle Stazioni Appaltanti (SA) di accedere alla BDNCP per verificare il possesso dei requisiti da parte degli operatori economici (OE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agli OE di inserire i documenti comprovanti il possesso dei requisit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C970-6549-446E-9A42-2B27C50D7EE5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Le regole dell’AVCP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’AVCPass è disciplinato dalla deliberazione AVCP n. 111 del 20 dicembre 2012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a deliberazione prevede che inizialmente l’AVCPass sia utilizzato per tutti gli appalti, fatta eccezione per gli affidamenti entro i 40.000 euro e per le procedure mediante MEPA (prefigurando una regolamentazione successiva)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10D-2A1E-4506-BF22-7BA906D42F91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I tempi di operatività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BDNCP deve essere utilizzata per il controllo di tutti i requisiti a partire dal 23 novembre 2013 (art. 49-ter legge n. 98/2013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AVCP aveva previsto l’operatività effettiva del sistema AVCPASS dal 1° gennaio 2014 (Comunicato Pres. AVCP 12 giugno 2013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d oggi non risulta formalizzata un’interpretazione AVCP di coordinament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205-6562-4E93-896A-A906F5F94602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er quali requisiti serve 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’AVCPass non è utilizzabile (secondo quanto previsto dalla deliberazione AVCP 111/2012) per il controllo di tutte le tipologie di requisiti di ordine generale (alcuni documenti devono essere acquisiti autonomamente dalla SA)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Per i requisiti di capacità particolari la SA deve precisare quali documenti l’OE deve inserire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0295-BD08-46FD-8C0D-E6AE1C0F2098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Cosa serve all’OE per entrare nell’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disporre di una casella di posta elettronica certificata (PEC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er l’amministratore/legale rappresentan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er un operatore delegat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disporre di una firma digitale, con la quale firmare i documenti da inserire nell’AVCP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208E-7AEC-48D8-8500-25FCE47734D0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inserire nell’AVCPass /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inserire nell’AVCPass i documenti relativi ai requisiti “ulteriori” di capacità economica o di capacità tecnico-professional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analizzare il bando/disciplinare di gara e verificare se questo specifica i documenti da inserire in relazione ai requisiti particolari (chiedendo eventuali chiarimenti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AD98-D0FF-4BEA-96FC-99E525BBCB32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inserire nell’AVCPass / 2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inserire nell’AVCPass </a:t>
            </a:r>
            <a:r>
              <a:rPr b="0" lang="it-IT" sz="3000" spc="-1" strike="noStrike" u="sng">
                <a:solidFill>
                  <a:srgbClr val="000000"/>
                </a:solidFill>
                <a:uFillTx/>
                <a:latin typeface="Verdana"/>
              </a:rPr>
              <a:t>in via transitoria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 documenti relativi ai servizi o alle forniture precedentemente prestati: attestazioni, certificazioni o, in alternativa, contratto, CIG e fattu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’ opportuno che l’OE richieda chiarimenti sulle modalità di attestazione dei servizi o delle forniture prestati per soggetti privati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374-1EC2-4280-94D9-854FA49E2538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20:00:54Z</dcterms:created>
  <dc:creator>Alberto Barbiero</dc:creator>
  <dc:description/>
  <dc:language>en-US</dc:language>
  <cp:lastModifiedBy>santolini.l</cp:lastModifiedBy>
  <dcterms:modified xsi:type="dcterms:W3CDTF">2014-01-22T08:21:09Z</dcterms:modified>
  <cp:revision>14</cp:revision>
  <dc:subject/>
  <dc:title>AVCPASS: Rivoluzione Informatica, gestione dei documenti e controllo dei requisiti nelle gare di appalto.</dc:title>
</cp:coreProperties>
</file>